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35F-022B-4BED-8206-DD1DB263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1CE-27CD-4818-A273-C0834C68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A4F-C882-4F6B-8D5B-938716A0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FED-CEBB-4054-BAE1-6CBEBA6C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B12-6FFF-435C-B60A-34728D8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219-2849-4707-9E0F-515FD54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327-B3A2-4730-830F-54660C70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8E1-7300-4E2B-B5B6-734EB2B9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6E6-1882-4D35-B530-C687F2C3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EB3-21DD-4825-B759-5872898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399-050D-432C-80D2-4635739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372-B7FD-4C38-BE6A-48E79F3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75A-8FBC-4018-ADB8-9756D183F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orms-alexander2.narod.ru/stages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47652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08360" y="189000"/>
            <a:ext cx="5254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10d97"/>
                </a:solidFill>
                <a:latin typeface="Times New Roman"/>
              </a:rPr>
              <a:t>Реформы </a:t>
            </a:r>
            <a:br>
              <a:rPr sz="6000"/>
            </a:br>
            <a:r>
              <a:rPr b="1" i="1" lang="ru-RU" sz="6000" spc="-1" strike="noStrike">
                <a:solidFill>
                  <a:srgbClr val="210d97"/>
                </a:solidFill>
                <a:latin typeface="Times New Roman"/>
              </a:rPr>
              <a:t>Александра </a:t>
            </a:r>
            <a:r>
              <a:rPr b="1" i="1" lang="en-US" sz="6000" spc="-1" strike="noStrike">
                <a:solidFill>
                  <a:srgbClr val="210d97"/>
                </a:solidFill>
                <a:latin typeface="Times New Roman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640" y="5516280"/>
            <a:ext cx="489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полнила: Виноградова Евгения Ль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кола №28, 10-а кла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уководитель: Козлова Надежд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0d97"/>
                </a:solidFill>
                <a:latin typeface="Arial"/>
                <a:ea typeface="Times New Roman"/>
              </a:rPr>
              <a:t>Судебная рефор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218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дебная власть была отделена от административной и законод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уголовных делах власть судебная отделена от обвини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д (судоговорение) происходил гласно, при открытых двер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д происходил устно, путем непосредственного расспроса и обмена мнений, в присутствии обвиняем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ден состязательный процесс (обвинение и защита; сопоставление и указание данных за и против обвиняемог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дены в судопроизводство присяжные заседат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дствие велось особыми судебными органами — судебными следовател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ивалось беспристрастие судебного следствия, должность судебных следователей была объявлена несменя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мелких дел учреждены мировые суды (без участия присяжных заседателе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ноября 1864 года – обнародованы Судебные уст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0d97"/>
                </a:solidFill>
                <a:latin typeface="Arial"/>
                <a:ea typeface="Times New Roman"/>
              </a:rPr>
              <a:t>Военная реформа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1874 года – издан манифест о военной службе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ок действительной службы понизился с 25 до 6 ле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oldier2" descr=""/>
          <p:cNvPicPr/>
          <p:nvPr/>
        </p:nvPicPr>
        <p:blipFill>
          <a:blip r:embed="rId1"/>
          <a:stretch/>
        </p:blipFill>
        <p:spPr>
          <a:xfrm>
            <a:off x="1258920" y="1927080"/>
            <a:ext cx="66261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8713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енная повинность из сословной стала всеобщей, одинаковой для всех классов нас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л невозможен денежный выкуп или наем за себя охотника, а также отдача в солдаты за пре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щимся предоставлялись льготы: им отсрочивался срок призыва и давалось необходимое время для окончания сво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грамотные числились в строю 6 лет, а потом переходили на 9 лет в запас; для кончивших городскую школу шестилетний срок понижался до 4-х, для кончивших гимназию — до 2-х лет, а студенты высших учебных заведений, по окончании курса, служили в строю всего один год. Вовсе избавлен был от строевой службы и прямо переходил в запас педагогический персонал средних и высших заве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ы элементарные школы для солдат, улучшена медицинская и санитарная часть, помещение, пищ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нятия образовательного уровня офицеров (военные гимназ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0d97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а крепостного права в 1861г. и последовавшие затем реформы в области местного управления, суда, просвещения, печати и т.д. создали более благоприятные условия для развития капитализма. Несмотря на свою половинчатость и незавершённость, реформы 60-х годов на этапе перехода России от феодализма к капитализму имели прогрессивное значени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0d97"/>
                </a:solidFill>
                <a:latin typeface="Times New Roman"/>
              </a:rPr>
              <a:t>Предпосылки к реформ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тастрофичес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итическое и военное положение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рымская война показала полную непригодность старой системы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ежные средства были истощены, отсутствие кредита за границей вызвало усиленный выпуск бумажных денег и падение кур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м и правительством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бходим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ведения рефор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0d97"/>
                </a:solidFill>
                <a:latin typeface="Times New Roman"/>
              </a:rPr>
              <a:t>Р</a:t>
            </a:r>
            <a:r>
              <a:rPr b="1" lang="en-US" sz="4000" spc="-1" strike="noStrike">
                <a:solidFill>
                  <a:srgbClr val="210d97"/>
                </a:solidFill>
                <a:latin typeface="Times New Roman"/>
                <a:ea typeface="Times New Roman"/>
              </a:rPr>
              <a:t>еформаторск</a:t>
            </a:r>
            <a:r>
              <a:rPr b="1" lang="en-US" sz="4000" spc="-1" strike="noStrike">
                <a:solidFill>
                  <a:srgbClr val="210d97"/>
                </a:solidFill>
                <a:latin typeface="Times New Roman"/>
              </a:rPr>
              <a:t>ая</a:t>
            </a:r>
            <a:r>
              <a:rPr b="1" lang="en-US" sz="4000" spc="-1" strike="noStrike">
                <a:solidFill>
                  <a:srgbClr val="210d97"/>
                </a:solidFill>
                <a:latin typeface="Times New Roman"/>
                <a:ea typeface="Times New Roman"/>
              </a:rPr>
              <a:t> деятельност</a:t>
            </a:r>
            <a:r>
              <a:rPr b="1" lang="en-US" sz="4000" spc="-1" strike="noStrike">
                <a:solidFill>
                  <a:srgbClr val="210d97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210d97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210d97"/>
                </a:solidFill>
                <a:latin typeface="Times New Roman"/>
                <a:ea typeface="Times New Roman"/>
              </a:rPr>
              <a:t>Александра 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488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мена крепостного прав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мена телесных наказа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чреждение земского самоуправле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ского самоуправл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сного и мирового с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устройство арм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0d97"/>
                </a:solidFill>
                <a:latin typeface="Arial"/>
                <a:ea typeface="Times New Roman"/>
              </a:rPr>
              <a:t>Крестьянская рефор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 февраля 1961 г. – отмена крепостного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тельство присвоило крепостным гражданские права – свободу вступления в брак, заключение договоров и ведение судебных дел, приобретение недвижимого имущества на свое имя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аниф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 освобождении кресть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manifest" descr=""/>
          <p:cNvPicPr/>
          <p:nvPr/>
        </p:nvPicPr>
        <p:blipFill>
          <a:blip r:embed="rId1"/>
          <a:stretch/>
        </p:blipFill>
        <p:spPr>
          <a:xfrm>
            <a:off x="4836960" y="1600200"/>
            <a:ext cx="365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1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ьяне перестали считаться собственностью - отныне их нельзя было продавать, покупать, дарить, переселять по произволу владельце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ьяне каждого помещичьего имения объединялись в сельские общ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ятельность сельского и волостного управлений, а также взаимоотношения крестьян с помещиками контролировались мировыми посредник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земля в имении признавалась собственностью помещика, в том числе и та, которая находилась в пользовании крестьян. За пользование своими наделами лично свободные крестьяне должны были отбывать барщину или платить оброк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ноземн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мля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давлением крепостников был введен сильно уменьшенный душевой наде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 занятием мировых посредников было ведение уставных грамот, определяющих размеры крестьянских наделов и повинност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act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476280"/>
            <a:ext cx="418284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0d97"/>
                </a:solidFill>
                <a:latin typeface="Times New Roman"/>
              </a:rPr>
              <a:t>Изменение наделов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ap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461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0d97"/>
                </a:solidFill>
                <a:latin typeface="Arial"/>
                <a:ea typeface="Times New Roman"/>
              </a:rPr>
              <a:t>Земская рефор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января 1864 года утвержд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Положение о земских учрежд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тральные государственные учреждения дают общие дире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аждом уезде: уездное земское собрание и уездная земская у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аждой губернии:  губернское земское собрание и губернская земская у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рание – есть власть законодательная,  управа – исполни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о выбора в уездные собрания  на началах бессосло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10d97"/>
                </a:solidFill>
                <a:latin typeface="Times New Roman"/>
                <a:ea typeface="Times New Roman"/>
              </a:rPr>
              <a:t>Городская рефор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7138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местного самоуправления, состоящего из городской думы и городской управы; с правом ведать свое городское хозяйство и содействовать развитию просвещения у себя в города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о жизни в городах собственными силами и средст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тельство оставило за собой лишь право надз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5280" y="141264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 июня 1870 года – утвержд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ородовое полож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6:03:35Z</dcterms:created>
  <dc:creator>Александра </dc:creator>
  <dc:description/>
  <dc:language>en-US</dc:language>
  <cp:lastModifiedBy>Александра </cp:lastModifiedBy>
  <dcterms:modified xsi:type="dcterms:W3CDTF">2010-11-16T12:05:41Z</dcterms:modified>
  <cp:revision>8</cp:revision>
  <dc:subject/>
  <dc:title>Реформы  Александра II </dc:title>
</cp:coreProperties>
</file>